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9438-2FC3-4D77-B17D-A5D4F38D1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E1B1-9FCD-4B18-AB82-9A45671E0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9FA-37FC-45F4-841F-3FBA01EA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48B-365D-43CE-ABB0-DF1E3479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252-C5E6-482B-BADB-DF29AED7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B4E-F797-4DB0-B363-B0B44DB3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8ED-3E67-4B5F-9ED8-181AA38E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9D8-BA0A-4117-9CA6-3EE6F5DB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C42-8751-4B1C-8656-E416E433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21A-026E-4D05-BE61-740150F2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2D0-CAB0-436A-9149-22A6C989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3A5-238B-48D5-BF42-A1621299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2D8-6B56-458B-90AE-79190D22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BCF-2CD6-45D2-AA25-C770AE6E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1A6F-3029-4B0C-86BB-B9A3411A3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ittany Gr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Brittany Gr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2860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Brittany Greve 16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514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5146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Brittany Grev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Brittany Greve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743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29718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6002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29718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004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334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04920" y="5105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267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200400"/>
            <a:ext cx="17524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llamo es brittany. Yo vivo en New York City.  Tengo catorce años. Yo tengo uno hermana. Yo amo gimnásticas y música. Yo tengo cabello rojo y ojos 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106668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0" y="6248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4560" y="6095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971800" y="4114800"/>
            <a:ext cx="601992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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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</a:t>
            </a:r>
            <a:r>
              <a:rPr b="0" lang="es-ES_tradnl" sz="12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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3124080" y="335268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oy loco ahora. Estoy enfermo porque mi hermana                           Ton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3124080" y="2514600"/>
            <a:ext cx="38862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oy muy cansada. ¿Puedes venir mis casa mañan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?                Patrick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1 hour ago.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3124080" y="4952880"/>
            <a:ext cx="541044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bien                                                                              Hann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hago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3124080" y="548640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124080" y="6324480"/>
            <a:ext cx="40388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tephan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ceonds ago         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362320" y="1905120"/>
            <a:ext cx="358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! ¿Cómo están mis amigo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10920" y="609588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111"/>
          <p:cNvPicPr/>
          <p:nvPr/>
        </p:nvPicPr>
        <p:blipFill>
          <a:blip r:embed="rId1"/>
          <a:stretch/>
        </p:blipFill>
        <p:spPr>
          <a:xfrm>
            <a:off x="1981080" y="259092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0" descr="007"/>
          <p:cNvPicPr/>
          <p:nvPr/>
        </p:nvPicPr>
        <p:blipFill>
          <a:blip r:embed="rId2"/>
          <a:stretch/>
        </p:blipFill>
        <p:spPr>
          <a:xfrm>
            <a:off x="2133720" y="3276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956"/>
          <p:cNvPicPr/>
          <p:nvPr/>
        </p:nvPicPr>
        <p:blipFill>
          <a:blip r:embed="rId3"/>
          <a:stretch/>
        </p:blipFill>
        <p:spPr>
          <a:xfrm>
            <a:off x="2286000" y="403848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900"/>
          <p:cNvPicPr/>
          <p:nvPr/>
        </p:nvPicPr>
        <p:blipFill>
          <a:blip r:embed="rId4"/>
          <a:stretch/>
        </p:blipFill>
        <p:spPr>
          <a:xfrm>
            <a:off x="457200" y="380880"/>
            <a:ext cx="74304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387"/>
          <p:cNvPicPr/>
          <p:nvPr/>
        </p:nvPicPr>
        <p:blipFill>
          <a:blip r:embed="rId5"/>
          <a:stretch/>
        </p:blipFill>
        <p:spPr>
          <a:xfrm>
            <a:off x="2209680" y="4876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4" descr="843"/>
          <p:cNvPicPr/>
          <p:nvPr/>
        </p:nvPicPr>
        <p:blipFill>
          <a:blip r:embed="rId6"/>
          <a:stretch/>
        </p:blipFill>
        <p:spPr>
          <a:xfrm>
            <a:off x="2362320" y="55627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5" descr="945"/>
          <p:cNvPicPr/>
          <p:nvPr/>
        </p:nvPicPr>
        <p:blipFill>
          <a:blip r:embed="rId7"/>
          <a:stretch/>
        </p:blipFill>
        <p:spPr>
          <a:xfrm>
            <a:off x="2286000" y="624852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6" descr="007"/>
          <p:cNvPicPr/>
          <p:nvPr/>
        </p:nvPicPr>
        <p:blipFill>
          <a:blip r:embed="rId8"/>
          <a:stretch/>
        </p:blipFill>
        <p:spPr>
          <a:xfrm>
            <a:off x="228600" y="4572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7" descr="111"/>
          <p:cNvPicPr/>
          <p:nvPr/>
        </p:nvPicPr>
        <p:blipFill>
          <a:blip r:embed="rId9"/>
          <a:stretch/>
        </p:blipFill>
        <p:spPr>
          <a:xfrm>
            <a:off x="990720" y="4572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8" descr="843"/>
          <p:cNvPicPr/>
          <p:nvPr/>
        </p:nvPicPr>
        <p:blipFill>
          <a:blip r:embed="rId10"/>
          <a:stretch/>
        </p:blipFill>
        <p:spPr>
          <a:xfrm>
            <a:off x="76320" y="5486400"/>
            <a:ext cx="57132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945"/>
          <p:cNvPicPr/>
          <p:nvPr/>
        </p:nvPicPr>
        <p:blipFill>
          <a:blip r:embed="rId11"/>
          <a:stretch/>
        </p:blipFill>
        <p:spPr>
          <a:xfrm>
            <a:off x="685800" y="5562720"/>
            <a:ext cx="61596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0" descr="956"/>
          <p:cNvPicPr/>
          <p:nvPr/>
        </p:nvPicPr>
        <p:blipFill>
          <a:blip r:embed="rId12"/>
          <a:stretch/>
        </p:blipFill>
        <p:spPr>
          <a:xfrm>
            <a:off x="1371600" y="5486400"/>
            <a:ext cx="571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6:04Z</dcterms:modified>
  <cp:revision>111</cp:revision>
  <dc:subject/>
  <dc:title>Profile</dc:title>
</cp:coreProperties>
</file>